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D6B-8063-4584-B805-E8F6AB69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4B1-C663-4B9F-BB3C-A84E451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1F8-D84D-4B93-A73A-0DB283DF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B1A-D59C-47A8-A383-82A42E4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AD5-6339-42FB-AA6C-BC2A7C39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429B-1839-4897-BBD8-D290DF0D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1C26-15EF-46BD-AFEA-D81FB91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8040-247A-4C70-B48D-8BC15C2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B81-9568-402D-804E-BDF90E9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E6A-C9A0-41A9-9416-D40299E2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D7D3-A5F0-47AC-AF55-0699F6C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221-60F1-4E40-9F74-CB285586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4D9-0DA1-445C-B4AC-ED92A6D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6C0-65DA-41BE-9805-0475C31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046D-F1EF-470E-A05D-11B4FD1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7B9-78B0-455E-8517-3656A9A6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1EE-C1E7-4662-A294-D935DAC0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4090-27A7-4AA9-AAC6-1FFF71DD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B655-0F94-4C7B-9FF2-13EC7F4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FD43-97EB-4097-A69A-FE12140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FD7A-F0E1-4387-9A5D-54B7CB46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69E9-6534-484C-BD0E-BCCC31A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6FA-D22B-4EA1-BC4D-52E11D8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E7A0-9FAF-4E9E-8430-A6373B1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9263-F171-41C8-840F-88C4130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3A08-8083-4131-8BD0-D9A349E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BA1D-5516-4ED9-9956-4DAF4C27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587C-14B1-4710-95EF-10647496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CDE9-8D38-4830-B2FC-54387C5F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7CF7-11AC-4DEB-9151-577773B1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1538-C3A5-4CBC-A696-A01FB7D6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2983-A6F0-4463-B49A-1E6DBE27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225C-29D5-422F-8F61-4CFA45C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F39-DE05-40F5-BD93-FE2AFE2B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3FA1-DF79-4B84-8FF6-C572010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D8D7-B176-4BFC-BBA4-0E8A96E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473F-C418-432C-BD98-883CDA4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AB46-2ACC-42A7-9AF0-38AE3C2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1110-3F0F-48E7-BBF2-0E38256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E9AD4-34BA-4AA8-BC79-85E7AEE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6058-8029-47F5-BF4C-93877827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FF5D-2FBB-4F5F-91DE-83416D4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A8AD-074E-466D-8858-65C2048A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C0DE-2AB2-4D12-9F18-77447C8E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05F-2E0A-4602-B1C1-15066CF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BEF93-C7FA-44B3-940D-3E88C28E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1E9F-1C81-426C-85D9-031115D7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9C1B-07B8-4B3D-BF49-CB057141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3625-F24D-462C-8EEA-67BF82C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5364-BECC-49DB-A672-B5721215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A7E0-9161-4FA1-B330-96BB42A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24DD-B8FD-40D4-B0A4-F28FD55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65FE2-4CFF-4E6B-BD96-10FA686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A6B7-BCB2-491C-A92F-BD58CA9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915E-572F-4257-BBC7-3B3093BA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B3F-FC7D-4684-AC14-857B1BE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AFAF8-F956-4523-B9FE-F3444CA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D2502-BB56-4DB5-AC16-7B8CD9D4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DB0F-7F36-4E69-B5B7-D9A5D63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A03C-0552-4104-9C67-C937500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44C1-6788-4A90-A22F-28F51DDE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9AB8B-D29C-46C2-BBBD-1D33FE2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4205-66FD-4879-9697-BDE87DA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1868-C5D3-49CE-9EF7-D45AE88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4992-A09F-4855-A0E0-565F143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2915D-06D4-4510-BF20-A94B371C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175-647F-48CA-A191-2044B89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E5C3-FAD6-4FB9-B5B2-11828BF6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93D2-C187-4BF2-B722-2476F25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15C6-285A-49B5-93E2-3FDAC160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A3F-55E3-4A8C-B92C-250E91C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BED-2FA9-4A86-AF16-498FF71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CA85-6280-4BF0-8CD1-B0DA53863A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1F7-82AD-4DCA-A579-5240BE6EF6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F434-F2C5-4FD4-B700-0780D98CA9F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2FD4-0B3B-4B30-BF4E-19EE71801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0F5C-772A-4B72-9AE3-0D571D3B769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7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F15D-27F1-4CD3-97CE-0142CFEAC3C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ма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31840" y="3730320"/>
            <a:ext cx="574056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Автор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f1311"/>
                </a:solidFill>
                <a:uFillTx/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блемный вопр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од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спользуемые материа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User_03</cp:lastModifiedBy>
  <dcterms:modified xsi:type="dcterms:W3CDTF">2009-11-25T11:11:13Z</dcterms:modified>
  <cp:revision>62</cp:revision>
  <dc:subject/>
  <dc:title>Слайд 1</dc:title>
</cp:coreProperties>
</file>